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99A-6B82-4FD8-B3F0-AD8DC270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35D-0C4C-48D6-B6BF-27819C30E79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88B-DD38-43C2-854C-F6031363437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B77B-DAA0-4F59-95FA-4C5C63DC917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83DE-E1C1-460D-96A2-9B9990A5DA9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fairy tales and its elements; compare and contrast elements; magical kingdom mural, after four weeks – asked to write a fairy tale, prewriting, conferenc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to see students “consciously incorporated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ele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their own stories (without suggesting they should be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“language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ther fairy tale deta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1225-AB37-4C95-864B-CC8A4F6B2CA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; high-ability students tend to be more metacognitively aware (Consciously aware of strategy use and thinking about think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36A9-7A25-4BCD-8E62-A994A606BFC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3C2-0151-473A-8C66-68D12B25F8E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EED6-BBF7-4CD2-8305-34E78717A85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6FD-9374-4E5E-808D-64C2BBE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C9A-2BA3-466B-BC14-7F1AAA4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2FF-DB8A-4AC2-8A02-21039EB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33B-0C50-4F91-8F77-8892F5F6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B8E-6C95-4BD3-8735-16D11264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D37-7215-457C-90C2-341994EA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AB39-5E8D-4B01-B5BB-781B97C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FCF8-27C7-46CA-98F1-B3FD8CCD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BEB-F2E2-475D-9C62-3A5EE470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BEAD-7515-4A0D-8EC4-0FA25B01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6E73-8769-4A91-9E8E-0394284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2A2-4798-4715-83E1-C28620C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E00-4373-4CD1-B649-238A2BC7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BC09-BCE7-44EB-9E9C-89DDF5B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0DB7-91E9-44C9-A689-EC6952D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C751-5448-445E-B268-3ABF460B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940-C531-46A8-9629-D978F0D8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EB4-6D0B-45FA-B399-9272589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4EA-E079-4736-8A9E-EDB0BC21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351-6EF3-46D4-B089-7C1CCC01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881-FFEB-4EA3-B30A-70D163EC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CF8-9E43-47F1-81F8-7527CE2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9F2-F04A-4B1F-A4C7-0DBD6E0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437-6EEA-422B-9A4E-2456E03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8BE-8B42-4DBE-BB40-FFA322447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84D0-D8C5-4C1B-AF89-7BA9C3D10EA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xt characteristics affect comprehension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explicit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 you teach students about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genre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Questions to Prompt Thinking Levels -  Examples from Cinderella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many stepsisters did Cinderella have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ferential/Interpretiv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did the fairy godmother help Cinderella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tasks did Cinderella have to do at home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w is the main character like or unlike anyone you have known or read abou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valuative: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do you think would have happened if the prince had broken the glass slipper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Comprehension Scaffolds for Guided Reading of Fiction and Nonfiction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, Support,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termine Import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(using different text structur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Analysi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 Literacy (charts, maps, diagram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09960" y="6027840"/>
            <a:ext cx="714384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n Richardson, Differentiating Strategy Instruct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401600" y="3200400"/>
            <a:ext cx="1584360" cy="119124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ti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Right Brace 6"/>
          <p:cNvSpPr/>
          <p:nvPr/>
        </p:nvSpPr>
        <p:spPr>
          <a:xfrm>
            <a:off x="6781680" y="2133720"/>
            <a:ext cx="609840" cy="373356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3733560"/>
              <a:gd name="textAreaBottom" fmla="*/ 37177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16200" y="10800"/>
                  <a:pt x="21600" y="10800"/>
                </a:cubicBezTo>
                <a:cubicBezTo>
                  <a:pt x="162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5400" y="21600"/>
                  <a:pt x="0" y="21600"/>
                </a:cubicBezTo>
              </a:path>
            </a:pathLst>
          </a:cu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l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do barn owls eat? What do barn owls use to find their foo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ferential/Interpretive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do barn owls hunt at nigh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barn owls especially built for hunting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barn owls different from a bird’s ears? (previous knowledg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valuativ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ch would you rather have as a pet – a barn owl or a parakeet and wh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aditional Tales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an You Prove It’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Fairy Tal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Multicultural Literatur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flect differences in cultural beliefs and what’s important in lif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s this effective for teaching elements of a particular genr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tential benefit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f the Prove It activit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f reading multiple cultural version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nefits of connecting to writing fairy tales (lik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Bearse article?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Purpos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“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took place (over 4 weeks)?  Key ele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word splas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ad lots of different stories (expos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mpare/contrast in mini-less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wrote (process writing, key compon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was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the study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. connections to other fairy tales (intertextual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conscious?  unconscious? Connection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Key finding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 result of intervention, 61% (11/18 students) mad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scious connections in their writ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stories they had read previously (naming characters, borrowed plot details; synthesized several fairy tales into their writ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nthesis was oft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nconsciou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whether the connections were to fairy tales or certain fairy tale elements (e.g., the lead, magical el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ll children, to some extent,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nalize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phisticated sentence structure, rhythms, and poetic language of fairy tale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id that happen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ey Practices to Foster Reading/Writ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stering reading/writing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mmerse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in genre stud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 instruc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language and structure of each gen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lots of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osu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multiple texts and models before you expect students to write in that gen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: Why do you think that high-ability students tend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while low-ability students seem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un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5" name="Picture 4" descr="Screen shot 2013-10-06 at 9.40.53 AM.png"/>
          <p:cNvPicPr/>
          <p:nvPr/>
        </p:nvPicPr>
        <p:blipFill>
          <a:blip r:embed="rId1"/>
          <a:stretch/>
        </p:blipFill>
        <p:spPr>
          <a:xfrm>
            <a:off x="228600" y="1636560"/>
            <a:ext cx="4343400" cy="5221440"/>
          </a:xfrm>
          <a:prstGeom prst="rect">
            <a:avLst/>
          </a:prstGeom>
          <a:ln w="19080">
            <a:solidFill>
              <a:srgbClr val="330000"/>
            </a:solidFill>
            <a:miter/>
          </a:ln>
        </p:spPr>
      </p:pic>
      <p:pic>
        <p:nvPicPr>
          <p:cNvPr id="136" name="Picture 5" descr="Screen shot 2013-10-06 at 9.41.49 AM.png"/>
          <p:cNvPicPr/>
          <p:nvPr/>
        </p:nvPicPr>
        <p:blipFill>
          <a:blip r:embed="rId2"/>
          <a:stretch/>
        </p:blipFill>
        <p:spPr>
          <a:xfrm>
            <a:off x="4648320" y="2666880"/>
            <a:ext cx="4221000" cy="2838600"/>
          </a:xfrm>
          <a:prstGeom prst="rect">
            <a:avLst/>
          </a:prstGeom>
          <a:ln w="28440">
            <a:solidFill>
              <a:srgbClr val="33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arrativ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genr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ext structures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and comprehension supports for bo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amine several versions of Cinderella for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key elements of fairy ta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flect on the Prove It Process and connect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to key ideas in Bearse’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Fairy Tale</a:t>
            </a:r>
            <a:br>
              <a:rPr sz="2800"/>
            </a:b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    Conn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kinds of narrative texts should be in your classroom library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instorm as many “narrative genres” as you can in two minut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enres of Narrative 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aditional St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Folktales, Fairytales, Fables, Myths, Trickster Tales, Legends, Tall Ta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nimal, toy, science fiction, time fantasy, horr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temporary (sports, survival, school, family), historical, myste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et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uplet, free verse, haiku, shape poems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ulticultural/International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secting, but representing specific cul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59320" y="5875200"/>
            <a:ext cx="74775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F YOU HAVE ALL OF THE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AT’S STILL MISSING IN YOUR CLASSROOM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OSITORY TEXTS!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o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ository (text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ys love them!    Fosters personal inquiry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licitly teach “reading to learn” rather than assume natural transition from learning to read to avoid “fourth grade slump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lements of Narrative Text Structur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alistic (specific or anytown USA), fictional, or 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ealed through words, actions, and descri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eginning/Middle/End &gt; Conflict and Resolu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nifying truth, universal message (big idea stat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ucture, figurative language, mood, irony, humo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who’s telling the stor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2800"/>
            </a:b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SUPPORTS FOR RETELLING… 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Screen shot 2011-10-19 at 9.54.19 PM.png"/>
          <p:cNvPicPr/>
          <p:nvPr/>
        </p:nvPicPr>
        <p:blipFill>
          <a:blip r:embed="rId1"/>
          <a:stretch/>
        </p:blipFill>
        <p:spPr>
          <a:xfrm>
            <a:off x="457200" y="2590920"/>
            <a:ext cx="337356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985920" y="2209680"/>
            <a:ext cx="4620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/M/E – 3 sentences/paragrap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10080" y="3276720"/>
            <a:ext cx="3771360" cy="459720"/>
          </a:xfrm>
          <a:prstGeom prst="rect">
            <a:avLst/>
          </a:prstGeom>
          <a:solidFill>
            <a:srgbClr val="f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16920" y="4191120"/>
            <a:ext cx="3675240" cy="4597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ce Events&gt;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798440" y="5037120"/>
            <a:ext cx="3227040" cy="82548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/Feelings 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lution/Feel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1209960" y="6027840"/>
            <a:ext cx="714384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 – p. 1-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n Richardson, Differentiating Strategy Instruct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5-Point Star 9"/>
          <p:cNvSpPr/>
          <p:nvPr/>
        </p:nvSpPr>
        <p:spPr>
          <a:xfrm>
            <a:off x="4038480" y="3048120"/>
            <a:ext cx="685800" cy="6858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Screen shot 2013-10-08 at 5.26.08 AM.png"/>
          <p:cNvPicPr/>
          <p:nvPr/>
        </p:nvPicPr>
        <p:blipFill>
          <a:blip r:embed="rId1"/>
          <a:stretch/>
        </p:blipFill>
        <p:spPr>
          <a:xfrm>
            <a:off x="216000" y="279360"/>
            <a:ext cx="8712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l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call information explicitly stated in the text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ferential/interpretive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an inference or draw a conclusion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valuative level comprehens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judgments, form an opinion, or weigh evidence that supports or opposes a position (e.g., bring personal experience and evidence-based reasoning to proce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40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2800"/>
            </a:br>
            <a:r>
              <a:rPr b="1" lang="en-US" sz="2800" spc="-1" strike="noStrike">
                <a:solidFill>
                  <a:srgbClr val="320000"/>
                </a:solidFill>
                <a:latin typeface="Arial"/>
              </a:rPr>
              <a:t>SCAFFOLDING LEVELS OF THINKING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705680" y="5943600"/>
            <a:ext cx="5857560" cy="825480"/>
          </a:xfrm>
          <a:prstGeom prst="rect">
            <a:avLst/>
          </a:prstGeom>
          <a:solidFill>
            <a:srgbClr val="ffeb99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eck out the extra resources on the wiki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vels of scaffolding for each strategy!!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1:44:57Z</dcterms:created>
  <dc:creator>Julie Coiro</dc:creator>
  <dc:description/>
  <dc:language>en-US</dc:language>
  <cp:lastModifiedBy>Julie Coiro</cp:lastModifiedBy>
  <cp:lastPrinted>2010-10-05T01:50:07Z</cp:lastPrinted>
  <dcterms:modified xsi:type="dcterms:W3CDTF">2013-10-10T00:18:30Z</dcterms:modified>
  <cp:revision>240</cp:revision>
  <dc:subject/>
  <dc:title>Metacognitive Strategy Instruction to Enhance Reading Comprehension</dc:title>
</cp:coreProperties>
</file>